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257F-AB20-46F5-95AD-1B4665AAF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87B1-F12E-4329-ADA7-1DA0E450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C695-1D5C-4BF6-8749-CBF6D5E16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A83A-18A1-40F5-88EF-388021773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D7C1-0AF6-4B89-98A5-474FA4F9A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400B-4099-41C1-A32D-92327BC6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E09-5AD5-4446-9AC1-3CE8C4E1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070-6523-48AB-BE43-E9AB7E9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854-240E-41F7-9362-C2324C8D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95C-29A9-4FA2-A8E9-CE3D4FBA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ECF-7C6D-4EC2-8F34-86B8775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488-D533-4349-97B9-B98B32E2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0A2-215F-44E6-B830-17E88B4D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7FC-8406-4C11-A055-D53AAAF1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1C7-14C4-4630-A6E7-D257CCAC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D27-3C1E-4744-B1D9-DF1DD8E2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A9A-2F93-4F05-8EF1-26B6EBB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A2F-32CC-4534-A301-C4DD64DD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9958-C29C-48EF-B6EC-AB8C426835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e/Triangle_with_notations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verse Kinematic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49F8-89C0-4E2E-A593-4957AE63D4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of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of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D37B-D4AE-4842-9ADC-1E2B979183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 Manip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: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: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E85B-F980-4631-A430-5DD4D692B9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066680" y="2971800"/>
                <a:ext cx="182880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5829480" cy="32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w of cosi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60EF-C69E-47BC-9FC8-840E1AA9B0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mage:Triangle with notation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905120"/>
            <a:ext cx="6496200" cy="315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^2 = a^2 + b^2 - 2ab\cos(\gamma) , \,"/>
          <p:cNvPicPr/>
          <p:nvPr/>
        </p:nvPicPr>
        <p:blipFill>
          <a:blip r:embed="rId3"/>
          <a:stretch/>
        </p:blipFill>
        <p:spPr>
          <a:xfrm>
            <a:off x="762120" y="5334120"/>
            <a:ext cx="4114800" cy="47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b^2 = c^2 + a^2 - 2ca\cos(\beta) , \,"/>
          <p:cNvPicPr/>
          <p:nvPr/>
        </p:nvPicPr>
        <p:blipFill>
          <a:blip r:embed="rId4"/>
          <a:stretch/>
        </p:blipFill>
        <p:spPr>
          <a:xfrm>
            <a:off x="990720" y="3200400"/>
            <a:ext cx="3657600" cy="39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a^2 = b^2 + c^2 - 2bc\cos(\alpha) . \,"/>
          <p:cNvPicPr/>
          <p:nvPr/>
        </p:nvPicPr>
        <p:blipFill>
          <a:blip r:embed="rId5"/>
          <a:stretch/>
        </p:blipFill>
        <p:spPr>
          <a:xfrm>
            <a:off x="990720" y="2666880"/>
            <a:ext cx="3276360" cy="3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D724-55B9-4230-86D4-F57D358623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676680" y="380880"/>
            <a:ext cx="5467320" cy="483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4038480" cy="7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1279440" cy="43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762120" y="2362320"/>
            <a:ext cx="116676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380880" y="3429000"/>
                <a:ext cx="3614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 Elkady</cp:lastModifiedBy>
  <dcterms:modified xsi:type="dcterms:W3CDTF">2008-02-28T09:39:29Z</dcterms:modified>
  <cp:revision>73</cp:revision>
  <dc:subject/>
  <dc:title>Robot Kinematics II </dc:title>
</cp:coreProperties>
</file>